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8F3-0360-4DCA-8879-057DA1A3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F84-42C7-4334-85D7-1474DB0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A50-1283-4E21-A944-36B9B111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BB1-1E32-4406-AB72-31189FB7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A9C-3B84-4AFF-B437-EEBD8A84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BB9-F325-4433-BB9B-14F295C5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CAA-2CD6-4263-A9A7-CA451B7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F6D-1E0E-4D05-8FA6-D4842E70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A3F-863F-44F4-A606-3938A7A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F92-9515-49D9-8308-252A918F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8E1-70E0-49A5-9797-94EE1C1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B47-F0C3-47DB-8233-4968F4D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C75-F75C-495B-B6B5-8D605491D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144792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í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h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奇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íguà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nge; surprising; o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很多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ěndu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y man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á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高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āoxì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d; happy; cheerful; be willing to; be happy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想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ǎ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uld like to;  remember with longing; mi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àoy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; req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ó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áng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ǎ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awa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ù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e; rab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directed at;  bring (two things) into conta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throw; ca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à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小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1"/>
          <a:stretch/>
        </p:blipFill>
        <p:spPr>
          <a:xfrm>
            <a:off x="-5335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对房子丢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1"/>
          <a:stretch/>
        </p:blipFill>
        <p:spPr>
          <a:xfrm>
            <a:off x="-99072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ph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说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 不能对房子丢蛋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请善良一点吧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对房子与礼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orded Sound" descr=""/>
          <p:cNvPicPr/>
          <p:nvPr/>
        </p:nvPicPr>
        <p:blipFill>
          <a:blip r:embed="rId1"/>
          <a:stretch/>
        </p:blipFill>
        <p:spPr>
          <a:xfrm>
            <a:off x="-15238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大地与礼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1"/>
          <a:stretch/>
        </p:blipFill>
        <p:spPr>
          <a:xfrm>
            <a:off x="-5335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人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1"/>
          <a:stretch/>
        </p:blipFill>
        <p:spPr>
          <a:xfrm>
            <a:off x="-7621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dolph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1"/>
          <a:stretch/>
        </p:blipFill>
        <p:spPr>
          <a:xfrm>
            <a:off x="-7621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1"/>
          <a:stretch/>
        </p:blipFill>
        <p:spPr>
          <a:xfrm>
            <a:off x="-8380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很高兴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们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istmas reinde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12952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85800" y="175248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as a rein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name was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d an odd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as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reindeer didn't play with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nte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ran away to fin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riend was a 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liked throwing eggs at peoples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ph told him to s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old him that he should give people gifts to make them forgiv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1523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ǐ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; ask; invite; engage; &lt;polite&gt;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善良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ànliá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and honest; kindhe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uxiliary&gt;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unny was named 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then gave eggs to the whol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hen wen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family wa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made him in charge of there games including the race in which they pulled a sleigh as fast as they could until they were so fast that they f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is were the Easter bunny and the Christmas reindeer ca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1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有红鼻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 真奇怪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orded Sound" descr=""/>
          <p:cNvPicPr/>
          <p:nvPr/>
        </p:nvPicPr>
        <p:blipFill>
          <a:blip r:embed="rId1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很多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们不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dolph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1"/>
          <a:stretch/>
        </p:blipFill>
        <p:spPr>
          <a:xfrm>
            <a:off x="-7621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 不 高兴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想要有朋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从房子跑走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1"/>
          <a:stretch/>
        </p:blipFill>
        <p:spPr>
          <a:xfrm>
            <a:off x="-7621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有一个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-5335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04Z</dcterms:created>
  <dc:creator>itsuser</dc:creator>
  <dc:description/>
  <dc:language>en-US</dc:language>
  <cp:lastModifiedBy>itsuser</cp:lastModifiedBy>
  <dcterms:modified xsi:type="dcterms:W3CDTF">2009-02-26T17:02:05Z</dcterms:modified>
  <cp:revision>9</cp:revision>
  <dc:subject/>
  <dc:title>这是一个reindeer。 他 叫 Rudolf。</dc:title>
</cp:coreProperties>
</file>